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355-3687-43B6-90FC-18A899B5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AC3-4A04-4548-98C9-540311B8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08C-F860-4BC9-8F02-0A3DFF5C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972-AE13-49BF-9C2E-CD59A3A7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89D-59DB-40E1-A532-906E872A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AE6-1BB8-42D6-BDCB-F27A1AFF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7FB-D5B0-4D80-8F5B-CCB5F0FF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160-E8CF-4920-A90B-AF32DBFC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369-0F9A-49BC-913C-AC22B8F4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9B5-1DD5-4153-99B1-F4CF3489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21A-4AA8-4FCA-A430-62AFB14B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15B-E47D-4A4F-92A4-14A6B991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99AC-0D93-4E8D-8450-4CC66F84D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r>
              <a:rPr b="1" i="1" lang="ru-RU" sz="1200" spc="-1" strike="noStrike">
                <a:solidFill>
                  <a:srgbClr val="a50021"/>
                </a:solidFill>
                <a:latin typeface="Arial"/>
              </a:rPr>
              <a:t>Слайд №38</a:t>
            </a:r>
            <a:br>
              <a:rPr sz="1200"/>
            </a:b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Пример  учета периода военной службы при </a:t>
            </a:r>
            <a:r>
              <a:rPr b="1" i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исчисления страхового стажа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(ст.16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ФЗ №255-ФЗ) </a:t>
            </a:r>
            <a:br>
              <a:rPr sz="3600"/>
            </a:b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121932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ериоды прохожд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оенной службы до 31.12.2006 года учитываются  в порядке, установленном ст. 17 Закона №255-ФЗ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 1 января 2007 года в случае если период военной службы  согласно Закону   от 24.07.2009 №213-ФЗ   влияет на размер пособия, осуществляется дополнительное финансирование за счет средств   федерального бюдж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Наприме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страхованный заболел 1 февраля 2010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6 лет  военной службы до 31.12.2006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2 года военной службы    за период с 1.01.2007 по 31.12.2008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а по трудовому  договору  7 месяцев ( с 01.07.2009 по 1 февраля 2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г.)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й страховой стаж  с учетом всей военной службы  до 31.12.2006 составляет 6,7 лет  -размер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собия  80 % среднего заработ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ем в страховой стаж 2 года  военной службы после 2006 года. Итого:  стаж  8,7 лет –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мер пособия    100% среднего зарабо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ница между ними  20%. Пособие в размере 20 % необходимо отнести на расходы федерального бюджета (показать  в форме -4 ФСС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03T07:30:33Z</dcterms:modified>
  <cp:revision>2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